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4080" y="2536920"/>
            <a:ext cx="8607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Grsecurity: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patch di sicurezza per il kern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440" y="4587840"/>
            <a:ext cx="8607240" cy="29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nrico Fere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rk@orkspac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ttp://www.orkspac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631880" y="376200"/>
            <a:ext cx="6954840" cy="1803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direzione su funzioni di libreri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39440" y="1800360"/>
            <a:ext cx="8607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 librerie vengono caricate sempre a partire dagli stessi indirizzi e all'interno di una libreria una funzione è sempre allo stesso off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Quindi per l'attacante è facile trovare l'indirizzo su cui far salatare il flusso d'esecu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 = START_LIB + F_OFF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_LIB = indirizzo inizio libr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_OFFSET = spiazzamento della funzione nella libr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root Evas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39440" y="2044440"/>
            <a:ext cx="860724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ot()” è una system call unix che permette di cambiare la root directory ad un process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ene usato per eseguire dei programmi a rischio (es. demoni) con una visione parziale di Fil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 il demone viene bucato l'attaccante si trova con una shell (anche di root) ma con una visione parziale del File System, quindi non potrà fare troppi dan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10120" y="6104520"/>
            <a:ext cx="86076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root Evas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roo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di Linux non è troppo forte e può essere evaso in diversi modi, ad esemp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tando /dev/hda? (se non c'è lo cre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ppio “chroo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raverso “ptrace()”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tc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Utilizzo improprio di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 sono alcuni devices “pericolosi” c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dev/kmem - memoria usata dal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dev/mem - tutta la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dev/port - porte d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e permettono di avere accesso diretto all'h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 esempio attraverso /dev/kmem è possibile inserire codice nel kernel anche se è compilato senza supporto per i modu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Uso improprio di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Linux è possibile creare dei link a dei file di cui non si è i proprietari. Questo rende possibile alcuni tipi di attacch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 ln -s /etc/passwd /tmp/file-pro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Attacchi di “ID Guess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66640" y="2101680"/>
            <a:ext cx="8926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no quegli attacchi che per funzionare hanno bisogno di predire un ID generato e usato dal sistema operativo. Alcuni degli ID da indovinare so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id del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rta sorgente di una connes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CP I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P 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23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La patch di gr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ratteristiche principali di gr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825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tezione da redirezione verso ShellCode e li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tezione da accessi a device pericol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tezioni sul File System (chroot evasion, links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trizioni sull'esecuzione di program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tezione da attacchi di “ID Guessing” (sports,         pid, ISN, IP IDs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trizioni in lettura a informazioni sul sistema          (/proc, dmesg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security supporta inoltre un sistema di ACL per gli accessi ai file e socket che rende il sitema di controllo dell'accesso di tipo Mandatorio (MA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un sistema MAC (a differenza dai DAC) l'accesso alle risorse di un utente non è gestito dall'utente stesso ma dal sistema. Solitamente questo tipo di controllo dell'accesso viene usato in ambienti milita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 sito ufficiale del progetto di grsecurity da cui si può scaricare la patch è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grsecurity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uttura della present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0040" y="2101320"/>
            <a:ext cx="767880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arte 1: Alcuni tipi di attac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arte 2: La patch di gr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arte 3: Codice maliz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nu princip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82840" y="1803240"/>
            <a:ext cx="5308560" cy="5321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dress space protect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nforce non-executable pages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de non eseguibile l'area di memoria dello stack, heap e B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strict mprotect()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edisce di cambiare gli attributi delle pagine di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ddress Space Layout Randomizati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mette di “randomizzare” l'indirizzo di partenza dello stack del kernel, dello stack dei programmi, dell'indirizzo di inizio delle mmap() e dell'inizio del codice esegui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dress space protec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968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ny writing to /dev/kmem, /dev/mem, /dev/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edisce l'accesso a questi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able privileged I/O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abilita le chiamate ioperm() e iopl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move adresses from /proc/pid/[maps|stat]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ngono tolte le informazione sulla memoria da questi files sul file system /pr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ide Kernel symbols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edisce di vedere i moduli caricati e i simboli del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C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968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ide kernel processes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ivando le ACL vengono nascosti i processi del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ximum tries before password lockout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ssimo numero di tentativi per disabilitare le 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ime to wait after max passwdord tries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mpo di attesa dopo il raggiungimento del massimo numero di tent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lesystem Prote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968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c restricti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lteriori protezioni su /pr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ddictional restricti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edisce di vedere informazioni sulla CPU e sui devices in /pr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inking restrictions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edisce di creare link a file di cui non si è i proprietari su directories +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FO restricti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edisce di scrivere su delle FIFO di cui non si è i proprietari su directory +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root jail restrictions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de il chroot evasion più difficolt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ecutable Prote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968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mesg(8) restri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gli utenti semplici non possono usare dmesg per vedere i msg del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andomizaed PI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vengono “randomizzati” i pid dei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usted path execu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permette di specificare alcuni gruppi in modo da impedirgli di eseguire comandi da directory che non siano di root e scrivibili solo da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Network Prote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968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uly random TCP ISN sel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sostituisce la funzione di generazione degli ISN con quella di openB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andomized IP IDs, TCP sports, RPC, XI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randomizza tutti questi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cket restrict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crea delle restrizioni sull'uso delle socket per certi grup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23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Esecuzione di codice malizio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ol us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70912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xec-test.c, testa l'eseguibilità delle pagine d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dd, mostra l'indirizzo di inizio delle lib dinam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ack.c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stampa l'indirizzo della cima dello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s -e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stampa i pid dei processi in esecu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c -l -p 5000, si mette in ascolto sulla porta 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elnet, apre una connes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mulazione di un att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70912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levazione privilegi + chroot eva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n.c, programma vulnerabile ad un 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xploit.c, exploit per vuln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hroot_evasion.c, evade da un chroo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23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Panoramica su alcuni tipi di attacch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zie per l'attenzion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39440" y="5370480"/>
            <a:ext cx="8607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orkspac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73520" y="2901960"/>
            <a:ext cx="2612880" cy="200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direzione del flusso d'esecu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71560" y="1719000"/>
            <a:ext cx="847728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fruttan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ffer Overf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mat String 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'esecuzione viene redirezionata vers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 messo in zone di memoria adibite a contenere dati (stack, heap o B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zioni di libreria (es. system() nella lib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O e 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a so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rrori di programmazione che permettono ad un attaccante di sovrascrivere aree di memoria sensibi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e è possibile redirigere il flusso d'esecuzi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vrascrivendo zone di memoria contenenti puntatori ad indirizzi di codice che dovrà essere eseguito (es. RET sullo stac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direzione verso uno ShellCod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440" y="1800360"/>
            <a:ext cx="8607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itamente un programma non contiene il codice per eseguire una shell, quindi come si f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 crea uno ShellCode che è la rappresentazione esadecimale del codice macchina che esegue una Shell (solitam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 ShellCode viene “iniettato” all'interno dell'area di indirizzamento del processo attraverso una variabile, l'enviroment, un parametro della riga di comando, ec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direzione verso uno ShellCod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.. quindi uno ShellCode si troverà in aree di memoria (pagine) adibite a contenere dati (stack, heap, BSS) che hanno permess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w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cosa serve il permesso x in una pagina da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niente, ma tutte le pagine con i permessi di lettura hanno anche permessi di esecuzione in Lin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Esempio di 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39440" y="2085840"/>
            <a:ext cx="86072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     __   ___  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    /  \ |   \ | | /\-----------&lt;&lt;ShellCode_execve.c&gt;&gt;--------------------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   / /\ \| |\ \| |/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  / /__\ \    /|   /       Author:             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  \______/ |\ \| | \       email:              orkmail@katamail.com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&lt;--------|_| \_\_|\_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 This is a simple linux/i386 ShellCode that execute /bin/s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har shellcode[]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"\xeb\x1e\x5e\x31\xc0\x88\x46\x07\x89\x76\x08\x89\x46\x0c\xb0\x0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"\x89\xf3\x8d\x4e\x08\x8d\x56\x0c\xcd\x80\xb0\x01\x31\xdb\xcd\x8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"\xe8\xdd\xff\xff\xff\x2f\x62\x69\x6e\x2f\x73\x68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n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*re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 = (int *)&amp;ret + 2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*ret) = (int)shellcode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direzione su funzioni di libreri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'interno di qualche libreria usata dal processo vulnerabile può esserci qualche funzione che esegue del codice che l'attaccante potrebbe utilizzare (es. “system()” o “execve()” nella lib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'attaccante deve solo fare in modo di passare alle funzioni i parametri giusti (es. “/bin/sh”) e non si deve preoccupare del codice in quanto quello esiste già all'interno della libr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rk</cp:lastModifiedBy>
  <dcterms:modified xsi:type="dcterms:W3CDTF">2003-11-30T09:53:12Z</dcterms:modified>
  <cp:revision>1</cp:revision>
  <dc:subject/>
  <dc:title>Grsecurity: patch di sicurezza per il kernel</dc:title>
</cp:coreProperties>
</file>